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296-08CA-4C85-AF2E-26314280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4FD-EC30-42D6-8971-041439B8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9D5-C1B0-48D3-AC6B-40FEDAE3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125-83DD-43ED-A4F5-DAEB60FB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CBA4-346F-490C-877F-13DA3733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4449-EB86-43D2-A5A1-05BED900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B303-4B0F-4551-8C18-5F06B0E8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FE77-83C9-4820-A120-12236802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32F4-D863-4A77-A3C2-E0EB3A02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3E26-E83A-4A7F-BC3D-CCDDAD50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1ECF-EDF2-4CA3-94CA-684AE7B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8B0-B768-4D39-B492-757C1D5B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EC8C-0C75-40AF-869B-2B34178E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F044-4E2D-4192-9413-44036F3B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589A-FE13-4845-9F73-C0AB2216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608D-5549-442F-9A85-F706F91E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F6B9-4EB8-41CB-8EAF-C3D30A8D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E08-8FA2-4B65-A83F-23394A5A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7CD-FECC-4B64-A832-7271F440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008-CA45-4DFC-8B77-27F22EA3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FE2-89E6-44E9-BB06-887B2B52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DDE-6A52-4D53-B584-E726C0AE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36B-9000-47C3-8B0C-80ADEADD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3AB-6D78-49FA-A9DA-554330E6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4AB4-3A5E-473A-9E63-90E5D03D4C5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AAC3-BDC6-48AE-8404-D5F36112B8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800" spc="-1" strike="noStrike">
                <a:solidFill>
                  <a:srgbClr val="ffff99"/>
                </a:solidFill>
                <a:latin typeface="Broadway"/>
              </a:rPr>
              <a:t>Monday, November 15, 2010</a:t>
            </a:r>
            <a:endParaRPr b="0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Compute angle measures for complementary, supplementary, and vertical angl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Solve angle measures using algebraic relationships created when a transversal intersects parallel li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ll Work: What is your math goal between now and December 17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 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How will you get ther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ignment: Lesson 3.4, problems 1-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800" spc="-1" strike="noStrike">
                <a:solidFill>
                  <a:srgbClr val="ffff99"/>
                </a:solidFill>
                <a:latin typeface="Broadway"/>
              </a:rPr>
              <a:t>Tuesday, November 16, 2010</a:t>
            </a:r>
            <a:endParaRPr b="0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4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Compute angle measures for complementary, supplementary, and vertical ang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Solve angle measures using algebraic relationships created when a transversal intersects parallel 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43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ll Work: What are parallel lines?  How can you prove lines are parallel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e 3.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ignment: Review Chapter 3.1-3.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 Thursd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800" spc="-1" strike="noStrike">
                <a:solidFill>
                  <a:srgbClr val="ffff99"/>
                </a:solidFill>
                <a:latin typeface="Broadway"/>
              </a:rPr>
              <a:t>Thursday, November 18, 2010</a:t>
            </a:r>
            <a:endParaRPr b="0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Verdana"/>
              </a:rPr>
              <a:t>Objective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Choose appropriate label for a polygon based on given attribu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43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ll Work: Why does what you wear affect others’ perceptions about you?  (At least 3 complete sentences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 Unit 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lyg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ignment:  Lesson 6.1, Problems 1-3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1-19T20:01:03Z</dcterms:modified>
  <cp:revision>64</cp:revision>
  <dc:subject/>
  <dc:title>Slide 1</dc:title>
</cp:coreProperties>
</file>